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E072A-02A3-4278-ABB1-A33E66BEB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477DF-6D60-4A92-A18A-3500B6270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DA5525-FEC8-4929-B4A9-BD872EAD2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C3BAF1-4F02-4AFA-880F-48150F317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F04A84-1809-4C65-8488-F5C718D3A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7EEDF3-0031-47AD-8B1D-A4106C481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AD016A-F40A-4EAB-9710-45BAA9478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5D8E14-B2E9-4CDA-BC51-51BF7EFAE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49AECC-990F-49E0-870F-E672D951C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E75FC0-A958-44AF-9B55-AF0FBD8EB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37FE31-C5D8-4793-B959-F470C6A8F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77DC9F-D8E0-4009-80A2-98817C908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F4C2B-62F1-4EF5-9585-264216884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AFD909-99A2-4F5A-856E-B746E36B2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AD2C94-5938-45EC-A49C-B2F3B38A9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8C1E63-7572-40DE-B86D-6FDD32CA6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27A937-DC5E-46D5-A009-3AF6B37AC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5D092E-4AC9-485B-BCDB-0191526C6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6002C4-26EC-47E5-A744-032709B3F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5375B1-C224-4BAD-A3BC-F21A4A491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8F829E-8D27-48A2-82E8-C613D046F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940DD2-6A97-409E-B53F-39C1C3EE0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24CC23-1FF7-4F9E-BDE2-25921FB97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85FF3-8556-4DE4-A99B-1E88021A6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4FDA71-5551-4A19-A64B-D9E36A619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F6142F-733C-4CA9-8F1E-FCD258F87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8CF2CE-CACD-4A05-B156-38BA61236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A2A2F2-B330-4BDD-BC30-8CED67EE3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4C0A1A-1F04-482C-84D2-649C2FB66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28638D-DD77-4D0C-A07E-FEE24B3CE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DF8EFD-B462-42CD-B35F-040BA529B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B27B9B-E192-46A8-BFCB-C882A5893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0D4633-BAA2-4729-9138-48C8FCB8A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2D8A95-8F88-4FCF-82DF-8A85B2A4D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86C28-40C6-41F4-B370-C9AAFB7C8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007CF6-7EA9-4CC9-BA9C-9FE5B68C5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E74B38-BCBC-4EB3-9E32-B6B0DE756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95C5E4-47C8-4E10-B18A-DF8AC2F38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E891DE-847C-4878-B6F8-65BBEB0E9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E4F5AC-12D9-4EA1-9EF7-F140C1F62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7A3AC0-52EE-4A24-9654-A2CF4A5FD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AFC2B0-54B4-49E8-B091-8D5B2E5BE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E0F9C0-17FF-4890-B80A-12813D3C5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BDA241-4E16-4B0D-9B42-DD5D6DD92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9882CC-03F8-4652-B283-963CE7AEF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046E7-E30D-4708-9EB8-70330F521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94445B-85DC-4320-AF47-0C9FDCB1D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DB220B-3DAA-4D1A-9064-2A50A2A9F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9BD646-B4AE-43BE-96C8-852D11CDB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48D165-799A-4963-9E39-C847070B7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4DB394-1DE2-42B4-9FEB-59F520289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27F8F49-CE11-43C5-AB04-2B88DBDCC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BD8D381-743C-4FCD-B388-D044B58FD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EF0210C-0BF5-4D29-9A07-5FAD656F4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2AF7FFB-1B67-4FCA-B7F4-F86DC485A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AB1A157-9953-4A78-95F0-675D1214F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5A4C1-8D52-4E02-82A3-E4DE10C85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4B0CC0F-7593-4FA0-8A40-A4C37D8E3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9C952B0-E5BF-4246-9B1C-B87192E6A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BEDDD3A-58DC-4B9D-9BD6-D964B37C8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66A3B5D-DB7C-4949-8E1B-7FDBE53D8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1C6BDC7-CB1A-4638-8DC6-C420A4B25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8F4A913-C2D7-449A-99D4-34C634610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6A42F37-612A-494C-BAF2-254A153DE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D085285-2630-45FE-88DF-C84EE1F43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234ADA9-953C-4AD5-8FCD-4A4CFBC84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C969A36-DA2D-4BD8-B428-A921FB2E7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C7D1A-2C52-4AD7-B65F-28353E8EC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0F02E38-FFAE-46C2-93E0-DD28E25F7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685FAF7-F389-4DE0-98FA-818805CA1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3555891-58D2-4F55-97CE-B815865B3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213B9C7-0592-4A8A-BC1D-BF31F5ABB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DABD659-AF28-42D0-A342-AF68B08BF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224BEDB-5B9A-428A-9BEF-284253EB2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198A3CC-B567-4551-B335-D7854064B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806CD25-D843-49E8-A973-1008D3DAE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C6F100B-BE2A-4DDF-91C4-758BF37E2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AE9F562-3FA5-41E0-AD09-31AA549D1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974A0-EC23-40F1-A964-929FBAB92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FD39A37-2377-433B-9431-DBC937E1B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A5466C2-D0EA-4E50-9378-DF74FF5AA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ADAFFEE-FF1A-4116-9022-EBAB76414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0366FF5-A339-48C3-83D1-C0DD62D7E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F98A57E-6928-443B-999C-F097586C7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8232F85-24B7-4C90-8971-1DAAF8745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57FC6F6-61C0-437F-B8E4-91ED23BDD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83863C5-4B54-45F7-9C4D-ECEE271F0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A706589-087B-425B-BB00-F3D2DD47B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5F864B8-DBC7-48EF-A80A-141CDD2BE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B64BA-F8AD-4CB9-914B-4D5D4237A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EA1C396-6321-4E87-A3F6-6EFD70805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A664AA5-0C0D-4DF1-81BF-68DB0EB8B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2E5C63E-A94A-4D3A-9B71-3D4A80691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31705C0-C91E-4196-BEC3-962F28914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06A0D98-CA7A-494D-891D-D465A6BD1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B8255AC-C1D9-4A88-AA36-60756B416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F4C7492-9FE1-4BFA-962E-5B0C85B92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48166FC-AAD1-4BB0-BEA9-C32A826F1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E0EF5D1-F1F7-4F74-8B3F-26C393852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281E4A2-DB9D-4C78-A9F5-40BE32965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65C2B-6D6F-4BAF-837E-34E9D1EA2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76C58FE-FC85-4E60-852E-A23A1283A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59239D8-2428-4589-A21F-223F084AC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BCF9FC8-AFD5-40C1-96C0-890867DB9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7F87EDC-9601-4F27-890F-DABBA875A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7840126-B4B7-441D-BAD0-2B30BA38B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FDCB4FF-615D-4330-BF7B-91033F691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70FE590-A375-4048-B209-77971334A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AF24FBB-56A0-4EAA-A48C-AF53F76E7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E06A111-06D7-4DC5-ABFF-16B7F0093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DD1E61A-8965-4380-8752-AF2FD5ABB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03BB6-C694-498B-BE3F-CF1D63312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50F59-7E31-4EE3-B0BE-6C30A2097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C9EEB28-4359-424D-A966-421B31A07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6023438-BCEC-441F-8CEA-480993B78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8996AD9-F1EB-48F4-9235-A4B7619F7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71FB6DD-3D33-442D-A448-6D4927079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67DE7E9-7EDA-45FE-AF4C-DA256276B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989A9F5-7EFC-4AFA-9E0C-F2498CC47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09FA920-B747-4256-9F76-1857FCFEE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F1D828F-AF78-4B38-A7C8-C926002D4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DF89790-FFA5-4122-9B9A-37858E4EA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A582B14-3E6B-477B-AAE0-FAB5E1966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3E619-A28C-4121-90A7-4C5628759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C5E397B-7BD8-4850-9119-1A4092EF8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08326AD-F6D3-422D-8FD1-1C1E97436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823A8A3-731E-4D2D-A474-62D1AD5C0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130138B-B36D-449B-9509-B91DEAFC7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4F16437-2683-43CD-8BB1-C719C442F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5CDDE3F-972A-464A-927A-80DB0A583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43B5391-DDB6-48D4-9EDF-9DCBC398D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4F7B0FB-E68D-49FC-8356-163BF3DA4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B43AB89-9C97-4654-B734-C38935122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6C6FEDF-C14B-435E-9DCF-EE0A5A6FD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48956-2101-4C73-9A28-55217A7B4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9AF5B11-FB87-4883-B3A1-9464F29B3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E51D30B-09C1-43C5-8AA1-2A3D2B0EB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4F5C064-5B37-478E-8593-FEE9BA938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E4D847D-9271-48B5-8CA7-8E436243B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B4D40FC-030D-4516-A6B9-D15FB1467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95F7167-FF65-4321-A498-C4687D8A4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57E95A5-D403-420E-B89B-65875A557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D73B93C-EB92-4E26-933D-F54E1C89C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3D0AFFC-0C7D-4249-B2EC-A236AA280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551D645-604C-4E78-8736-B0FBDF195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E1884-6D1D-4489-8FBD-474D43456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CBC48EF-E0CA-4CBB-B756-347DD071C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16A2B33-8B9C-4078-91CC-3A1A10841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0A26296-2496-4152-934C-8792FD01D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9B8D26C-32B6-40C6-B833-CC568E9A2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518835B-B6A0-49D0-815B-8EED5FE51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DCD9E18-D148-40F7-8C69-D97B8CD9C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A063025-3794-44F9-8453-EA1B429B8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8837945-495C-4F04-8ABD-803FB6B88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8A8A77A-4653-4A1E-B5AF-0573D8984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CD5C5F5-87B3-4909-BED2-0C2CB656B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96099-2607-4C46-BB1A-370731C38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3AA15BD-C4A2-4D20-80D0-E130D56F1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8664F93-8F48-4539-AB22-8EC462AEB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95DFA99-76CE-4CE3-B613-8F0673E78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713E2C7-3A57-491F-BB22-C92271081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47138A4-1ADF-4D65-B4CB-8CF50A3C9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DF7A632-4077-45BD-8CAD-FEA8F5B5D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25C3C5D-5E86-472F-B4D6-12A2E4736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98EF50D-162E-486C-B213-B1CD24BF8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6895081-44C0-4EE9-9DC8-85F6D8F39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9CB0C13-5221-45F9-955F-8CE0C7064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A061D3-3F7C-4705-A77F-FB18D4426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A01A1E4-D071-470B-979F-7B86C351C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2E274B9-5C78-4205-B30B-B036D8307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EBDF15E-AEA8-4A11-A506-4E6D40704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82E468-6DCB-4A94-BCC5-37E72C5B9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B652E3-380E-486D-A1BE-C9BE5685E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C46C11-2341-4C46-93D0-613B3524F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482F5B-5C3F-4141-9EAB-D8555EFC6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86B72-F364-4E48-AD06-8CBA3E157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5E20D7-E56F-4679-AB5B-9666B1009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536120-D7D7-4221-ABBC-8600CD700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4F9963-CEA3-4229-AC44-7C5B720AA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96E50A-EF5F-4DF4-BC1D-87206E73E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300972-90AA-4A5B-AB5C-B9D62D9FF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C99118-6869-4410-ACD4-6A1AE5CAC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7B08A8-DBE2-4123-9DCC-9619F65BF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7E6917-AEF2-4B48-AFCC-07C64D49C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C5ED5F-E0B9-43AD-8A21-5089352AE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28E73B-31DB-43EE-9662-F1F427B44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B681A-46EC-4172-9678-27725915C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D03079-CA91-4FC1-825A-AA60556CB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3D724A-A27D-4DC1-828E-3BB5D1C09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79B7A0-02DA-412D-BE41-41B3114DB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FA3D62-D2D0-4567-911C-CDE63A7BC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FB9406-CD43-499B-8983-FE0E4AD6C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9CEE1A-2B26-410D-B292-94DF621D3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75BDFE-CA70-4047-BAA3-743B9E50C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6CF32A-94ED-47A3-954B-2392BD044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D3D66A-0329-4D59-BE5E-69F7FC81E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A5A535-FF0D-4CF6-BEB1-43EFD63F6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84A1C-8D90-4FAB-A239-0857C31C9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63448F-0BE0-4B86-815E-9261C26CE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1438A3-0EF5-4EF9-9415-AD425752D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384919-2D84-4785-89AC-B492C127B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26DA1D-A345-4F43-8DFF-A74CE4FE7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81C567-0458-4BC2-9C9B-ADD74278D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339038-5865-43C4-A222-7B755B6FC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6D4ECC-A5FA-446B-B9CA-9BB6381A7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10BE75-1E94-4684-B91D-DE08AC714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CAD8FE-3C51-418B-AD80-95A895450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E445BA-1168-4E58-8C06-529AE5EA2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5F5D5-227C-437F-A1A5-D44AC80ED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FE7E23-0C8B-4E3B-97C4-E957BE731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29D66E-F69E-4123-A442-1EB85A27D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8E4F6F-C4C6-4EB1-8D0B-3116922E9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3F6787-90FB-482A-834E-2BBDE912E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97B194-EA62-4582-A017-A0F2B2106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3DF111-BD09-4189-8FD5-1F72D109E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640369-9C3F-489E-961B-21B04B564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3B2542-DE00-4B97-B03E-CB37CADD2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7AA16F-E0AD-49B0-BB68-6D92C493A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B7E9C8-3D14-4394-A440-FEFA6245F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D46E4-92DF-44A9-BFE6-2AB4E3CB2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9B31E9-4301-4D50-AAD4-2D3343307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ADB61E-F1E1-490D-837C-3CB4DF377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40DA37-0F40-47B5-AC56-A7FA77B79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C0F277-A0E3-4442-A57E-CF34C38B0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8EEC12-D361-4664-A324-F2C8FE266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BCDFE4-A11B-46AB-9DF4-6FE97030F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2D664C-3F59-4F32-A440-98143EE9E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CAA850-C79D-4EED-AE49-A01EEAB47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07D3F9-0303-4397-A0AD-7C33EBD44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F05D24-84F6-4D38-BE92-ECF182CA3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6D488-42FE-446C-AF53-6ABAA461B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14AFD2-6197-4BF6-8FE5-2F8A2508D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8A82C3-5AFB-43C9-82AE-6F010C108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EA1C9B-CFF6-4A9E-8C7B-39F7632D0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3B7C8F-0267-45EE-9135-29A2F10C6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30AA81-DEDC-4A8D-8482-3AA03518A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32018E-4E7F-4B96-B5C6-D9749FA06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64FB5D-791E-4AA9-AAAB-C29C0C2ED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F83E85-7C77-450A-A7CA-8682B4485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9390BC-D164-4DC6-8146-F82C1BB59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7B2F6E-4D39-40B9-A0EF-0F9B0BEC5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B16D0-415B-4E2E-8237-61D0CC781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07E7EE-6A69-4F97-9982-36F325A1E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AFA78C-849E-49EB-A30B-2DAF5C7CD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5451E2-913A-43B3-9349-C6296DF99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A49142-040E-48F8-991D-EB10DA44C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6B6F63-1873-4826-BDA9-6843C70ED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16915A-2909-4925-A516-472BF7ED7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54F135-67B6-4131-8EBC-AD63B5BE6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AE8F89-F160-479E-A813-B37402749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1F4BC0-DBAE-4371-9C5E-054258F2D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FCC99D-43B5-422B-A578-C73C01D68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EA1C5-6475-4D1E-A399-63C9FAA0F7F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52C92-277E-4289-BC51-0BBE102ECE6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6CAD3-359D-4E20-8374-38AAFD18084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AC14E-072A-4D4E-9FD6-866D6179E44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D6DCA-5C08-48F8-9060-972355A88BE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0FF11-11B6-49C5-85BD-A62CEC36908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62339-7502-411C-98D1-A23C6F7B51B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28570-D4F2-4248-B49D-28A00B4E8C2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CDE30-EDF3-4EF2-A34A-F517DF483FF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F2B67-9AB4-4D6D-BBC8-5FC3EAB4D52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FF73D-8EDB-4596-856D-6BF4951D668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AD7FF-7F94-470D-9C17-BF726A49FFD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53991-2D00-4F21-B1CD-1202EEB3F32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FFFAA-77FC-4D76-B5C5-8ECD2CA35FE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EE122-2020-494A-98D3-AF8E50E9649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64EC1-85E9-4E37-9CBE-1057FBCDE1D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24BBC-0592-4DC9-8706-2A15F54BCBF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02AC1-D3A0-47C4-BDA5-4F78C3B584A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10DF9-4628-4A71-8B2F-F58944ED05D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1B319-41A0-46B8-B95E-7096C825062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578E1-62F6-4BAB-9EFF-D064922B36B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1D2AE-0442-437A-A105-1DF79BD8BED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EA403-3DBA-4775-9CDF-1164DA8A372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23FC4-73E0-412E-BE66-AEE64D9B088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65FCB-442A-43B2-AED7-8FA5C5E982D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D706E-8517-45EE-BD57-03A59BC8B96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F9625-0157-425A-B7A0-4A12095D491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4E078-48C4-4CFF-9271-563673EB179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CC670-0C37-4FD3-B08E-3B3C96589E5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9B9C9-7A13-471C-9321-DFC421D7FDA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FEB54-F6A9-4B06-BF3B-594DCD26332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3FE13-E1FA-4D50-ABE9-AA482D14596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A1E06-8783-4861-ADDF-F2E0BCC8240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5BABF-0112-45D9-9345-AA9BF7ECCFF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DE43C-C8C9-486D-94A2-FF249594A7F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98328-480E-43C2-B211-50B4606453B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7FAA7-BFC8-4956-8CA7-D735F7B85F1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12DB8-1E3E-4024-A2EA-32E3776CF0C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6D0D8-9C18-426F-B105-4BAA8425B83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A89A4-30F8-4D89-A1BC-76D0B70A5ED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11.png"/><Relationship Id="rId11" Type="http://schemas.openxmlformats.org/officeDocument/2006/relationships/image" Target="../media/image11.png"/><Relationship Id="rId12" Type="http://schemas.openxmlformats.org/officeDocument/2006/relationships/image" Target="../media/image11.png"/><Relationship Id="rId1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11.png"/><Relationship Id="rId11" Type="http://schemas.openxmlformats.org/officeDocument/2006/relationships/image" Target="../media/image11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11.png"/><Relationship Id="rId11" Type="http://schemas.openxmlformats.org/officeDocument/2006/relationships/image" Target="../media/image11.png"/><Relationship Id="rId12" Type="http://schemas.openxmlformats.org/officeDocument/2006/relationships/image" Target="../media/image11.png"/><Relationship Id="rId13" Type="http://schemas.openxmlformats.org/officeDocument/2006/relationships/image" Target="../media/image11.png"/><Relationship Id="rId14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11.png"/><Relationship Id="rId11" Type="http://schemas.openxmlformats.org/officeDocument/2006/relationships/image" Target="../media/image11.png"/><Relationship Id="rId12" Type="http://schemas.openxmlformats.org/officeDocument/2006/relationships/image" Target="../media/image11.png"/><Relationship Id="rId13" Type="http://schemas.openxmlformats.org/officeDocument/2006/relationships/image" Target="../media/image11.png"/><Relationship Id="rId14" Type="http://schemas.openxmlformats.org/officeDocument/2006/relationships/image" Target="../media/image11.png"/><Relationship Id="rId15" Type="http://schemas.openxmlformats.org/officeDocument/2006/relationships/image" Target="../media/image11.png"/><Relationship Id="rId16" Type="http://schemas.openxmlformats.org/officeDocument/2006/relationships/image" Target="../media/image11.png"/><Relationship Id="rId17" Type="http://schemas.openxmlformats.org/officeDocument/2006/relationships/image" Target="../media/image11.png"/><Relationship Id="rId18" Type="http://schemas.openxmlformats.org/officeDocument/2006/relationships/image" Target="../media/image11.png"/><Relationship Id="rId19" Type="http://schemas.openxmlformats.org/officeDocument/2006/relationships/image" Target="../media/image11.png"/><Relationship Id="rId20" Type="http://schemas.openxmlformats.org/officeDocument/2006/relationships/image" Target="../media/image11.png"/><Relationship Id="rId2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8016840" cy="19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9" name="图片 69633" descr=""/>
          <p:cNvPicPr/>
          <p:nvPr/>
        </p:nvPicPr>
        <p:blipFill>
          <a:blip r:embed="rId1"/>
          <a:stretch/>
        </p:blipFill>
        <p:spPr>
          <a:xfrm>
            <a:off x="385920" y="3952800"/>
            <a:ext cx="8372160" cy="1924200"/>
          </a:xfrm>
          <a:prstGeom prst="rect">
            <a:avLst/>
          </a:prstGeom>
          <a:ln w="0">
            <a:noFill/>
          </a:ln>
        </p:spPr>
      </p:pic>
      <p:pic>
        <p:nvPicPr>
          <p:cNvPr id="1000" name="图片 69634" descr=""/>
          <p:cNvPicPr/>
          <p:nvPr/>
        </p:nvPicPr>
        <p:blipFill>
          <a:blip r:embed="rId2"/>
          <a:stretch/>
        </p:blipFill>
        <p:spPr>
          <a:xfrm>
            <a:off x="1332000" y="1341360"/>
            <a:ext cx="6600600" cy="1943280"/>
          </a:xfrm>
          <a:prstGeom prst="rect">
            <a:avLst/>
          </a:prstGeom>
          <a:ln w="0">
            <a:noFill/>
          </a:ln>
        </p:spPr>
      </p:pic>
      <p:pic>
        <p:nvPicPr>
          <p:cNvPr id="1001" name="Picture 1" descr=""/>
          <p:cNvPicPr/>
          <p:nvPr/>
        </p:nvPicPr>
        <p:blipFill>
          <a:blip r:embed="rId3"/>
          <a:stretch/>
        </p:blipFill>
        <p:spPr>
          <a:xfrm>
            <a:off x="4356000" y="1557360"/>
            <a:ext cx="503280" cy="719280"/>
          </a:xfrm>
          <a:prstGeom prst="rect">
            <a:avLst/>
          </a:prstGeom>
          <a:ln w="0">
            <a:noFill/>
          </a:ln>
        </p:spPr>
      </p:pic>
      <p:pic>
        <p:nvPicPr>
          <p:cNvPr id="1002" name="Picture 1" descr=""/>
          <p:cNvPicPr/>
          <p:nvPr/>
        </p:nvPicPr>
        <p:blipFill>
          <a:blip r:embed="rId4"/>
          <a:stretch/>
        </p:blipFill>
        <p:spPr>
          <a:xfrm>
            <a:off x="4356000" y="2421000"/>
            <a:ext cx="503280" cy="718920"/>
          </a:xfrm>
          <a:prstGeom prst="rect">
            <a:avLst/>
          </a:prstGeom>
          <a:ln w="0">
            <a:noFill/>
          </a:ln>
        </p:spPr>
      </p:pic>
      <p:pic>
        <p:nvPicPr>
          <p:cNvPr id="1003" name="Picture 1" descr=""/>
          <p:cNvPicPr/>
          <p:nvPr/>
        </p:nvPicPr>
        <p:blipFill>
          <a:blip r:embed="rId5"/>
          <a:stretch/>
        </p:blipFill>
        <p:spPr>
          <a:xfrm>
            <a:off x="7308720" y="1557360"/>
            <a:ext cx="503280" cy="719280"/>
          </a:xfrm>
          <a:prstGeom prst="rect">
            <a:avLst/>
          </a:prstGeom>
          <a:ln w="0">
            <a:noFill/>
          </a:ln>
        </p:spPr>
      </p:pic>
      <p:pic>
        <p:nvPicPr>
          <p:cNvPr id="1004" name="Picture 1" descr=""/>
          <p:cNvPicPr/>
          <p:nvPr/>
        </p:nvPicPr>
        <p:blipFill>
          <a:blip r:embed="rId6"/>
          <a:stretch/>
        </p:blipFill>
        <p:spPr>
          <a:xfrm>
            <a:off x="7308720" y="2421000"/>
            <a:ext cx="503280" cy="718920"/>
          </a:xfrm>
          <a:prstGeom prst="rect">
            <a:avLst/>
          </a:prstGeom>
          <a:ln w="0">
            <a:noFill/>
          </a:ln>
        </p:spPr>
      </p:pic>
      <p:pic>
        <p:nvPicPr>
          <p:cNvPr id="1005" name="Picture 1" descr=""/>
          <p:cNvPicPr/>
          <p:nvPr/>
        </p:nvPicPr>
        <p:blipFill>
          <a:blip r:embed="rId7"/>
          <a:stretch/>
        </p:blipFill>
        <p:spPr>
          <a:xfrm>
            <a:off x="1619280" y="4078440"/>
            <a:ext cx="503280" cy="718920"/>
          </a:xfrm>
          <a:prstGeom prst="rect">
            <a:avLst/>
          </a:prstGeom>
          <a:ln w="0">
            <a:noFill/>
          </a:ln>
        </p:spPr>
      </p:pic>
      <p:pic>
        <p:nvPicPr>
          <p:cNvPr id="1006" name="Picture 1" descr=""/>
          <p:cNvPicPr/>
          <p:nvPr/>
        </p:nvPicPr>
        <p:blipFill>
          <a:blip r:embed="rId8"/>
          <a:stretch/>
        </p:blipFill>
        <p:spPr>
          <a:xfrm>
            <a:off x="1619280" y="4941720"/>
            <a:ext cx="503280" cy="719280"/>
          </a:xfrm>
          <a:prstGeom prst="rect">
            <a:avLst/>
          </a:prstGeom>
          <a:ln w="0">
            <a:noFill/>
          </a:ln>
        </p:spPr>
      </p:pic>
      <p:pic>
        <p:nvPicPr>
          <p:cNvPr id="1007" name="Picture 1" descr=""/>
          <p:cNvPicPr/>
          <p:nvPr/>
        </p:nvPicPr>
        <p:blipFill>
          <a:blip r:embed="rId9"/>
          <a:stretch/>
        </p:blipFill>
        <p:spPr>
          <a:xfrm>
            <a:off x="4643280" y="4078440"/>
            <a:ext cx="503280" cy="718920"/>
          </a:xfrm>
          <a:prstGeom prst="rect">
            <a:avLst/>
          </a:prstGeom>
          <a:ln w="0">
            <a:noFill/>
          </a:ln>
        </p:spPr>
      </p:pic>
      <p:pic>
        <p:nvPicPr>
          <p:cNvPr id="1008" name="Picture 1" descr=""/>
          <p:cNvPicPr/>
          <p:nvPr/>
        </p:nvPicPr>
        <p:blipFill>
          <a:blip r:embed="rId10"/>
          <a:stretch/>
        </p:blipFill>
        <p:spPr>
          <a:xfrm>
            <a:off x="4643280" y="4970520"/>
            <a:ext cx="503280" cy="718920"/>
          </a:xfrm>
          <a:prstGeom prst="rect">
            <a:avLst/>
          </a:prstGeom>
          <a:ln w="0">
            <a:noFill/>
          </a:ln>
        </p:spPr>
      </p:pic>
      <p:pic>
        <p:nvPicPr>
          <p:cNvPr id="1009" name="Picture 1" descr=""/>
          <p:cNvPicPr/>
          <p:nvPr/>
        </p:nvPicPr>
        <p:blipFill>
          <a:blip r:embed="rId11"/>
          <a:stretch/>
        </p:blipFill>
        <p:spPr>
          <a:xfrm>
            <a:off x="7956720" y="4092480"/>
            <a:ext cx="718920" cy="719280"/>
          </a:xfrm>
          <a:prstGeom prst="rect">
            <a:avLst/>
          </a:prstGeom>
          <a:ln w="0">
            <a:noFill/>
          </a:ln>
        </p:spPr>
      </p:pic>
      <p:pic>
        <p:nvPicPr>
          <p:cNvPr id="1010" name="Picture 1" descr=""/>
          <p:cNvPicPr/>
          <p:nvPr/>
        </p:nvPicPr>
        <p:blipFill>
          <a:blip r:embed="rId12"/>
          <a:stretch/>
        </p:blipFill>
        <p:spPr>
          <a:xfrm>
            <a:off x="7812000" y="4956120"/>
            <a:ext cx="50328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48" dur="1000"/>
                                        <p:tgtEl>
                                          <p:spTgt spid="10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3" dur="1000"/>
                                        <p:tgtEl>
                                          <p:spTgt spid="10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1000"/>
                                        <p:tgtEl>
                                          <p:spTgt spid="10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3" dur="1000"/>
                                        <p:tgtEl>
                                          <p:spTgt spid="10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8" dur="1000"/>
                                        <p:tgtEl>
                                          <p:spTgt spid="10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73" dur="1000"/>
                                        <p:tgtEl>
                                          <p:spTgt spid="10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78" dur="1000"/>
                                        <p:tgtEl>
                                          <p:spTgt spid="10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3" dur="10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8" dur="100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93" dur="10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2" name="图片 60428" descr=""/>
          <p:cNvPicPr/>
          <p:nvPr/>
        </p:nvPicPr>
        <p:blipFill>
          <a:blip r:embed="rId1"/>
          <a:stretch/>
        </p:blipFill>
        <p:spPr>
          <a:xfrm>
            <a:off x="304920" y="1671480"/>
            <a:ext cx="8534160" cy="35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3" name="图片 59410" descr=""/>
          <p:cNvPicPr/>
          <p:nvPr/>
        </p:nvPicPr>
        <p:blipFill>
          <a:blip r:embed="rId1"/>
          <a:stretch/>
        </p:blipFill>
        <p:spPr>
          <a:xfrm>
            <a:off x="676440" y="873000"/>
            <a:ext cx="7791120" cy="572472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1" descr=""/>
          <p:cNvPicPr/>
          <p:nvPr/>
        </p:nvPicPr>
        <p:blipFill>
          <a:blip r:embed="rId2"/>
          <a:stretch/>
        </p:blipFill>
        <p:spPr>
          <a:xfrm>
            <a:off x="7236000" y="2608200"/>
            <a:ext cx="502920" cy="44784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1" descr=""/>
          <p:cNvPicPr/>
          <p:nvPr/>
        </p:nvPicPr>
        <p:blipFill>
          <a:blip r:embed="rId3"/>
          <a:stretch/>
        </p:blipFill>
        <p:spPr>
          <a:xfrm>
            <a:off x="7236000" y="3141720"/>
            <a:ext cx="502920" cy="44748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1" descr=""/>
          <p:cNvPicPr/>
          <p:nvPr/>
        </p:nvPicPr>
        <p:blipFill>
          <a:blip r:embed="rId4"/>
          <a:stretch/>
        </p:blipFill>
        <p:spPr>
          <a:xfrm>
            <a:off x="5580000" y="386064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1" descr=""/>
          <p:cNvPicPr/>
          <p:nvPr/>
        </p:nvPicPr>
        <p:blipFill>
          <a:blip r:embed="rId5"/>
          <a:stretch/>
        </p:blipFill>
        <p:spPr>
          <a:xfrm>
            <a:off x="7451640" y="364500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928" name="Picture 1" descr=""/>
          <p:cNvPicPr/>
          <p:nvPr/>
        </p:nvPicPr>
        <p:blipFill>
          <a:blip r:embed="rId6"/>
          <a:stretch/>
        </p:blipFill>
        <p:spPr>
          <a:xfrm>
            <a:off x="7451640" y="417816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1" descr=""/>
          <p:cNvPicPr/>
          <p:nvPr/>
        </p:nvPicPr>
        <p:blipFill>
          <a:blip r:embed="rId7"/>
          <a:stretch/>
        </p:blipFill>
        <p:spPr>
          <a:xfrm>
            <a:off x="2411280" y="468144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1" descr=""/>
          <p:cNvPicPr/>
          <p:nvPr/>
        </p:nvPicPr>
        <p:blipFill>
          <a:blip r:embed="rId8"/>
          <a:stretch/>
        </p:blipFill>
        <p:spPr>
          <a:xfrm>
            <a:off x="2411280" y="521496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931" name="Picture 1" descr=""/>
          <p:cNvPicPr/>
          <p:nvPr/>
        </p:nvPicPr>
        <p:blipFill>
          <a:blip r:embed="rId9"/>
          <a:stretch/>
        </p:blipFill>
        <p:spPr>
          <a:xfrm>
            <a:off x="2916360" y="566100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932" name="Picture 1" descr=""/>
          <p:cNvPicPr/>
          <p:nvPr/>
        </p:nvPicPr>
        <p:blipFill>
          <a:blip r:embed="rId10"/>
          <a:stretch/>
        </p:blipFill>
        <p:spPr>
          <a:xfrm>
            <a:off x="4500720" y="5705640"/>
            <a:ext cx="502920" cy="447480"/>
          </a:xfrm>
          <a:prstGeom prst="rect">
            <a:avLst/>
          </a:prstGeom>
          <a:ln w="0">
            <a:noFill/>
          </a:ln>
        </p:spPr>
      </p:pic>
      <p:pic>
        <p:nvPicPr>
          <p:cNvPr id="933" name="Picture 1" descr=""/>
          <p:cNvPicPr/>
          <p:nvPr/>
        </p:nvPicPr>
        <p:blipFill>
          <a:blip r:embed="rId11"/>
          <a:stretch/>
        </p:blipFill>
        <p:spPr>
          <a:xfrm>
            <a:off x="5969160" y="5675400"/>
            <a:ext cx="502920" cy="447480"/>
          </a:xfrm>
          <a:prstGeom prst="rect">
            <a:avLst/>
          </a:prstGeom>
          <a:ln w="0">
            <a:noFill/>
          </a:ln>
        </p:spPr>
      </p:pic>
      <p:pic>
        <p:nvPicPr>
          <p:cNvPr id="934" name="Picture 1" descr=""/>
          <p:cNvPicPr/>
          <p:nvPr/>
        </p:nvPicPr>
        <p:blipFill>
          <a:blip r:embed="rId12"/>
          <a:stretch/>
        </p:blipFill>
        <p:spPr>
          <a:xfrm>
            <a:off x="5969160" y="6208560"/>
            <a:ext cx="502920" cy="447840"/>
          </a:xfrm>
          <a:prstGeom prst="rect">
            <a:avLst/>
          </a:prstGeom>
          <a:ln w="0">
            <a:noFill/>
          </a:ln>
        </p:spPr>
      </p:pic>
      <p:pic>
        <p:nvPicPr>
          <p:cNvPr id="935" name="图片 59424" descr=""/>
          <p:cNvPicPr/>
          <p:nvPr/>
        </p:nvPicPr>
        <p:blipFill>
          <a:blip r:embed="rId13"/>
          <a:stretch/>
        </p:blipFill>
        <p:spPr>
          <a:xfrm>
            <a:off x="1130400" y="893880"/>
            <a:ext cx="4781520" cy="16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" dur="10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" dur="10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" dur="10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" dur="10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4" dur="10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000"/>
                            </p:stCondLst>
                            <p:childTnLst>
                              <p:par>
                                <p:cTn id="37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10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10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10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10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7" dur="10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6" name="图片 58373" descr=""/>
          <p:cNvPicPr/>
          <p:nvPr/>
        </p:nvPicPr>
        <p:blipFill>
          <a:blip r:embed="rId1"/>
          <a:stretch/>
        </p:blipFill>
        <p:spPr>
          <a:xfrm>
            <a:off x="647640" y="407880"/>
            <a:ext cx="7848720" cy="6334200"/>
          </a:xfrm>
          <a:prstGeom prst="rect">
            <a:avLst/>
          </a:prstGeom>
          <a:ln w="0">
            <a:noFill/>
          </a:ln>
        </p:spPr>
      </p:pic>
      <p:pic>
        <p:nvPicPr>
          <p:cNvPr id="937" name="Picture 1" descr=""/>
          <p:cNvPicPr/>
          <p:nvPr/>
        </p:nvPicPr>
        <p:blipFill>
          <a:blip r:embed="rId2"/>
          <a:stretch/>
        </p:blipFill>
        <p:spPr>
          <a:xfrm>
            <a:off x="1619280" y="318456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938" name="Picture 1" descr=""/>
          <p:cNvPicPr/>
          <p:nvPr/>
        </p:nvPicPr>
        <p:blipFill>
          <a:blip r:embed="rId3"/>
          <a:stretch/>
        </p:blipFill>
        <p:spPr>
          <a:xfrm>
            <a:off x="1619280" y="371628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1" descr=""/>
          <p:cNvPicPr/>
          <p:nvPr/>
        </p:nvPicPr>
        <p:blipFill>
          <a:blip r:embed="rId4"/>
          <a:stretch/>
        </p:blipFill>
        <p:spPr>
          <a:xfrm>
            <a:off x="4960800" y="318456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940" name="Picture 1" descr=""/>
          <p:cNvPicPr/>
          <p:nvPr/>
        </p:nvPicPr>
        <p:blipFill>
          <a:blip r:embed="rId5"/>
          <a:stretch/>
        </p:blipFill>
        <p:spPr>
          <a:xfrm>
            <a:off x="4960800" y="371628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941" name="Picture 1" descr=""/>
          <p:cNvPicPr/>
          <p:nvPr/>
        </p:nvPicPr>
        <p:blipFill>
          <a:blip r:embed="rId6"/>
          <a:stretch/>
        </p:blipFill>
        <p:spPr>
          <a:xfrm>
            <a:off x="3851280" y="420696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942" name="Picture 1" descr=""/>
          <p:cNvPicPr/>
          <p:nvPr/>
        </p:nvPicPr>
        <p:blipFill>
          <a:blip r:embed="rId7"/>
          <a:stretch/>
        </p:blipFill>
        <p:spPr>
          <a:xfrm>
            <a:off x="3851280" y="473868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943" name="Picture 1" descr=""/>
          <p:cNvPicPr/>
          <p:nvPr/>
        </p:nvPicPr>
        <p:blipFill>
          <a:blip r:embed="rId8"/>
          <a:stretch/>
        </p:blipFill>
        <p:spPr>
          <a:xfrm>
            <a:off x="5335560" y="420696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944" name="Picture 1" descr=""/>
          <p:cNvPicPr/>
          <p:nvPr/>
        </p:nvPicPr>
        <p:blipFill>
          <a:blip r:embed="rId9"/>
          <a:stretch/>
        </p:blipFill>
        <p:spPr>
          <a:xfrm>
            <a:off x="5335560" y="473868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945" name="Picture 1" descr=""/>
          <p:cNvPicPr/>
          <p:nvPr/>
        </p:nvPicPr>
        <p:blipFill>
          <a:blip r:embed="rId10"/>
          <a:stretch/>
        </p:blipFill>
        <p:spPr>
          <a:xfrm>
            <a:off x="4284720" y="5992920"/>
            <a:ext cx="1079280" cy="447480"/>
          </a:xfrm>
          <a:prstGeom prst="rect">
            <a:avLst/>
          </a:prstGeom>
          <a:ln w="0">
            <a:noFill/>
          </a:ln>
        </p:spPr>
      </p:pic>
      <p:pic>
        <p:nvPicPr>
          <p:cNvPr id="946" name="图片 58383" descr=""/>
          <p:cNvPicPr/>
          <p:nvPr/>
        </p:nvPicPr>
        <p:blipFill>
          <a:blip r:embed="rId11"/>
          <a:stretch/>
        </p:blipFill>
        <p:spPr>
          <a:xfrm>
            <a:off x="1244520" y="447840"/>
            <a:ext cx="4781520" cy="16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4" dur="5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9" dur="10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000"/>
                            </p:stCondLst>
                            <p:childTnLst>
                              <p:par>
                                <p:cTn id="72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3" dur="10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8" dur="10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2" dur="10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7" dur="10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000"/>
                            </p:stCondLst>
                            <p:childTnLst>
                              <p:par>
                                <p:cTn id="90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1" dur="10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6" dur="10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000"/>
                            </p:stCondLst>
                            <p:childTnLst>
                              <p:par>
                                <p:cTn id="99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0" dur="10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5" dur="10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7" name="图片 57352" descr=""/>
          <p:cNvPicPr/>
          <p:nvPr/>
        </p:nvPicPr>
        <p:blipFill>
          <a:blip r:embed="rId1"/>
          <a:stretch/>
        </p:blipFill>
        <p:spPr>
          <a:xfrm>
            <a:off x="423720" y="1038240"/>
            <a:ext cx="8296560" cy="4781520"/>
          </a:xfrm>
          <a:prstGeom prst="rect">
            <a:avLst/>
          </a:prstGeom>
          <a:ln w="0">
            <a:noFill/>
          </a:ln>
        </p:spPr>
      </p:pic>
      <p:pic>
        <p:nvPicPr>
          <p:cNvPr id="948" name="Picture 1" descr=""/>
          <p:cNvPicPr/>
          <p:nvPr/>
        </p:nvPicPr>
        <p:blipFill>
          <a:blip r:embed="rId2"/>
          <a:stretch/>
        </p:blipFill>
        <p:spPr>
          <a:xfrm>
            <a:off x="4067280" y="1773360"/>
            <a:ext cx="649080" cy="863640"/>
          </a:xfrm>
          <a:prstGeom prst="rect">
            <a:avLst/>
          </a:prstGeom>
          <a:ln w="0">
            <a:noFill/>
          </a:ln>
        </p:spPr>
      </p:pic>
      <p:pic>
        <p:nvPicPr>
          <p:cNvPr id="949" name="Picture 1" descr=""/>
          <p:cNvPicPr/>
          <p:nvPr/>
        </p:nvPicPr>
        <p:blipFill>
          <a:blip r:embed="rId3"/>
          <a:stretch/>
        </p:blipFill>
        <p:spPr>
          <a:xfrm>
            <a:off x="5637240" y="1773360"/>
            <a:ext cx="649440" cy="863640"/>
          </a:xfrm>
          <a:prstGeom prst="rect">
            <a:avLst/>
          </a:prstGeom>
          <a:ln w="0">
            <a:noFill/>
          </a:ln>
        </p:spPr>
      </p:pic>
      <p:pic>
        <p:nvPicPr>
          <p:cNvPr id="950" name="Picture 1" descr=""/>
          <p:cNvPicPr/>
          <p:nvPr/>
        </p:nvPicPr>
        <p:blipFill>
          <a:blip r:embed="rId4"/>
          <a:stretch/>
        </p:blipFill>
        <p:spPr>
          <a:xfrm>
            <a:off x="7164360" y="1773360"/>
            <a:ext cx="649440" cy="863640"/>
          </a:xfrm>
          <a:prstGeom prst="rect">
            <a:avLst/>
          </a:prstGeom>
          <a:ln w="0">
            <a:noFill/>
          </a:ln>
        </p:spPr>
      </p:pic>
      <p:pic>
        <p:nvPicPr>
          <p:cNvPr id="951" name="Picture 1" descr=""/>
          <p:cNvPicPr/>
          <p:nvPr/>
        </p:nvPicPr>
        <p:blipFill>
          <a:blip r:embed="rId5"/>
          <a:stretch/>
        </p:blipFill>
        <p:spPr>
          <a:xfrm>
            <a:off x="4068720" y="2781360"/>
            <a:ext cx="649440" cy="863640"/>
          </a:xfrm>
          <a:prstGeom prst="rect">
            <a:avLst/>
          </a:prstGeom>
          <a:ln w="0">
            <a:noFill/>
          </a:ln>
        </p:spPr>
      </p:pic>
      <p:pic>
        <p:nvPicPr>
          <p:cNvPr id="952" name="Picture 1" descr=""/>
          <p:cNvPicPr/>
          <p:nvPr/>
        </p:nvPicPr>
        <p:blipFill>
          <a:blip r:embed="rId6"/>
          <a:stretch/>
        </p:blipFill>
        <p:spPr>
          <a:xfrm>
            <a:off x="5638680" y="2781360"/>
            <a:ext cx="649440" cy="863640"/>
          </a:xfrm>
          <a:prstGeom prst="rect">
            <a:avLst/>
          </a:prstGeom>
          <a:ln w="0">
            <a:noFill/>
          </a:ln>
        </p:spPr>
      </p:pic>
      <p:pic>
        <p:nvPicPr>
          <p:cNvPr id="953" name="Picture 1" descr=""/>
          <p:cNvPicPr/>
          <p:nvPr/>
        </p:nvPicPr>
        <p:blipFill>
          <a:blip r:embed="rId7"/>
          <a:stretch/>
        </p:blipFill>
        <p:spPr>
          <a:xfrm>
            <a:off x="7321680" y="2781360"/>
            <a:ext cx="649080" cy="863640"/>
          </a:xfrm>
          <a:prstGeom prst="rect">
            <a:avLst/>
          </a:prstGeom>
          <a:ln w="0">
            <a:noFill/>
          </a:ln>
        </p:spPr>
      </p:pic>
      <p:pic>
        <p:nvPicPr>
          <p:cNvPr id="954" name="Picture 1" descr=""/>
          <p:cNvPicPr/>
          <p:nvPr/>
        </p:nvPicPr>
        <p:blipFill>
          <a:blip r:embed="rId8"/>
          <a:stretch/>
        </p:blipFill>
        <p:spPr>
          <a:xfrm>
            <a:off x="4313160" y="3789360"/>
            <a:ext cx="649440" cy="863640"/>
          </a:xfrm>
          <a:prstGeom prst="rect">
            <a:avLst/>
          </a:prstGeom>
          <a:ln w="0">
            <a:noFill/>
          </a:ln>
        </p:spPr>
      </p:pic>
      <p:pic>
        <p:nvPicPr>
          <p:cNvPr id="955" name="Picture 1" descr=""/>
          <p:cNvPicPr/>
          <p:nvPr/>
        </p:nvPicPr>
        <p:blipFill>
          <a:blip r:embed="rId9"/>
          <a:stretch/>
        </p:blipFill>
        <p:spPr>
          <a:xfrm>
            <a:off x="5938920" y="3789360"/>
            <a:ext cx="649080" cy="863640"/>
          </a:xfrm>
          <a:prstGeom prst="rect">
            <a:avLst/>
          </a:prstGeom>
          <a:ln w="0">
            <a:noFill/>
          </a:ln>
        </p:spPr>
      </p:pic>
      <p:pic>
        <p:nvPicPr>
          <p:cNvPr id="956" name="Picture 1" descr=""/>
          <p:cNvPicPr/>
          <p:nvPr/>
        </p:nvPicPr>
        <p:blipFill>
          <a:blip r:embed="rId10"/>
          <a:stretch/>
        </p:blipFill>
        <p:spPr>
          <a:xfrm>
            <a:off x="7738920" y="3789360"/>
            <a:ext cx="649440" cy="863640"/>
          </a:xfrm>
          <a:prstGeom prst="rect">
            <a:avLst/>
          </a:prstGeom>
          <a:ln w="0">
            <a:noFill/>
          </a:ln>
        </p:spPr>
      </p:pic>
      <p:pic>
        <p:nvPicPr>
          <p:cNvPr id="957" name="Picture 1" descr=""/>
          <p:cNvPicPr/>
          <p:nvPr/>
        </p:nvPicPr>
        <p:blipFill>
          <a:blip r:embed="rId11"/>
          <a:stretch/>
        </p:blipFill>
        <p:spPr>
          <a:xfrm>
            <a:off x="4356000" y="4869000"/>
            <a:ext cx="649440" cy="863640"/>
          </a:xfrm>
          <a:prstGeom prst="rect">
            <a:avLst/>
          </a:prstGeom>
          <a:ln w="0">
            <a:noFill/>
          </a:ln>
        </p:spPr>
      </p:pic>
      <p:pic>
        <p:nvPicPr>
          <p:cNvPr id="958" name="Picture 1" descr=""/>
          <p:cNvPicPr/>
          <p:nvPr/>
        </p:nvPicPr>
        <p:blipFill>
          <a:blip r:embed="rId12"/>
          <a:stretch/>
        </p:blipFill>
        <p:spPr>
          <a:xfrm>
            <a:off x="5925960" y="4869000"/>
            <a:ext cx="649440" cy="863640"/>
          </a:xfrm>
          <a:prstGeom prst="rect">
            <a:avLst/>
          </a:prstGeom>
          <a:ln w="0">
            <a:noFill/>
          </a:ln>
        </p:spPr>
      </p:pic>
      <p:pic>
        <p:nvPicPr>
          <p:cNvPr id="959" name="Picture 1" descr=""/>
          <p:cNvPicPr/>
          <p:nvPr/>
        </p:nvPicPr>
        <p:blipFill>
          <a:blip r:embed="rId13"/>
          <a:stretch/>
        </p:blipFill>
        <p:spPr>
          <a:xfrm>
            <a:off x="7667640" y="4869000"/>
            <a:ext cx="649440" cy="8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2" dur="10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7" dur="10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2" dur="10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7" dur="10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2" dur="10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7" dur="10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2" dur="10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7" dur="10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2" dur="10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7" dur="10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2" dur="10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7" dur="10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0" name="图片 56324" descr=""/>
          <p:cNvPicPr/>
          <p:nvPr/>
        </p:nvPicPr>
        <p:blipFill>
          <a:blip r:embed="rId1"/>
          <a:stretch/>
        </p:blipFill>
        <p:spPr>
          <a:xfrm>
            <a:off x="619200" y="1486080"/>
            <a:ext cx="7905600" cy="3886200"/>
          </a:xfrm>
          <a:prstGeom prst="rect">
            <a:avLst/>
          </a:prstGeom>
          <a:ln w="0">
            <a:noFill/>
          </a:ln>
        </p:spPr>
      </p:pic>
      <p:pic>
        <p:nvPicPr>
          <p:cNvPr id="961" name="Picture 1" descr=""/>
          <p:cNvPicPr/>
          <p:nvPr/>
        </p:nvPicPr>
        <p:blipFill>
          <a:blip r:embed="rId2"/>
          <a:stretch/>
        </p:blipFill>
        <p:spPr>
          <a:xfrm>
            <a:off x="3564000" y="226224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962" name="Picture 1" descr=""/>
          <p:cNvPicPr/>
          <p:nvPr/>
        </p:nvPicPr>
        <p:blipFill>
          <a:blip r:embed="rId3"/>
          <a:stretch/>
        </p:blipFill>
        <p:spPr>
          <a:xfrm>
            <a:off x="3506760" y="280980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963" name="Picture 1" descr=""/>
          <p:cNvPicPr/>
          <p:nvPr/>
        </p:nvPicPr>
        <p:blipFill>
          <a:blip r:embed="rId4"/>
          <a:stretch/>
        </p:blipFill>
        <p:spPr>
          <a:xfrm>
            <a:off x="5321160" y="221940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964" name="Picture 1" descr=""/>
          <p:cNvPicPr/>
          <p:nvPr/>
        </p:nvPicPr>
        <p:blipFill>
          <a:blip r:embed="rId5"/>
          <a:stretch/>
        </p:blipFill>
        <p:spPr>
          <a:xfrm>
            <a:off x="5264280" y="276696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965" name="Picture 1" descr=""/>
          <p:cNvPicPr/>
          <p:nvPr/>
        </p:nvPicPr>
        <p:blipFill>
          <a:blip r:embed="rId6"/>
          <a:stretch/>
        </p:blipFill>
        <p:spPr>
          <a:xfrm>
            <a:off x="7093080" y="224784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966" name="Picture 1" descr=""/>
          <p:cNvPicPr/>
          <p:nvPr/>
        </p:nvPicPr>
        <p:blipFill>
          <a:blip r:embed="rId7"/>
          <a:stretch/>
        </p:blipFill>
        <p:spPr>
          <a:xfrm>
            <a:off x="7035840" y="279576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967" name="Picture 1" descr=""/>
          <p:cNvPicPr/>
          <p:nvPr/>
        </p:nvPicPr>
        <p:blipFill>
          <a:blip r:embed="rId8"/>
          <a:stretch/>
        </p:blipFill>
        <p:spPr>
          <a:xfrm>
            <a:off x="3549600" y="331308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968" name="Picture 1" descr=""/>
          <p:cNvPicPr/>
          <p:nvPr/>
        </p:nvPicPr>
        <p:blipFill>
          <a:blip r:embed="rId9"/>
          <a:stretch/>
        </p:blipFill>
        <p:spPr>
          <a:xfrm>
            <a:off x="3492360" y="386064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969" name="Picture 1" descr=""/>
          <p:cNvPicPr/>
          <p:nvPr/>
        </p:nvPicPr>
        <p:blipFill>
          <a:blip r:embed="rId10"/>
          <a:stretch/>
        </p:blipFill>
        <p:spPr>
          <a:xfrm>
            <a:off x="5307120" y="327024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970" name="Picture 1" descr=""/>
          <p:cNvPicPr/>
          <p:nvPr/>
        </p:nvPicPr>
        <p:blipFill>
          <a:blip r:embed="rId11"/>
          <a:stretch/>
        </p:blipFill>
        <p:spPr>
          <a:xfrm>
            <a:off x="5249880" y="381780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971" name="Picture 1" descr=""/>
          <p:cNvPicPr/>
          <p:nvPr/>
        </p:nvPicPr>
        <p:blipFill>
          <a:blip r:embed="rId12"/>
          <a:stretch/>
        </p:blipFill>
        <p:spPr>
          <a:xfrm>
            <a:off x="7078680" y="329868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972" name="Picture 1" descr=""/>
          <p:cNvPicPr/>
          <p:nvPr/>
        </p:nvPicPr>
        <p:blipFill>
          <a:blip r:embed="rId13"/>
          <a:stretch/>
        </p:blipFill>
        <p:spPr>
          <a:xfrm>
            <a:off x="7021440" y="384660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973" name="Picture 1" descr=""/>
          <p:cNvPicPr/>
          <p:nvPr/>
        </p:nvPicPr>
        <p:blipFill>
          <a:blip r:embed="rId14"/>
          <a:stretch/>
        </p:blipFill>
        <p:spPr>
          <a:xfrm>
            <a:off x="3075120" y="437832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974" name="Picture 1" descr=""/>
          <p:cNvPicPr/>
          <p:nvPr/>
        </p:nvPicPr>
        <p:blipFill>
          <a:blip r:embed="rId15"/>
          <a:stretch/>
        </p:blipFill>
        <p:spPr>
          <a:xfrm>
            <a:off x="3003480" y="492588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975" name="Picture 1" descr=""/>
          <p:cNvPicPr/>
          <p:nvPr/>
        </p:nvPicPr>
        <p:blipFill>
          <a:blip r:embed="rId16"/>
          <a:stretch/>
        </p:blipFill>
        <p:spPr>
          <a:xfrm>
            <a:off x="4818240" y="4335480"/>
            <a:ext cx="502920" cy="447480"/>
          </a:xfrm>
          <a:prstGeom prst="rect">
            <a:avLst/>
          </a:prstGeom>
          <a:ln w="0">
            <a:noFill/>
          </a:ln>
        </p:spPr>
      </p:pic>
      <p:pic>
        <p:nvPicPr>
          <p:cNvPr id="976" name="Picture 1" descr=""/>
          <p:cNvPicPr/>
          <p:nvPr/>
        </p:nvPicPr>
        <p:blipFill>
          <a:blip r:embed="rId17"/>
          <a:stretch/>
        </p:blipFill>
        <p:spPr>
          <a:xfrm>
            <a:off x="4761000" y="488304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977" name="Picture 1" descr=""/>
          <p:cNvPicPr/>
          <p:nvPr/>
        </p:nvPicPr>
        <p:blipFill>
          <a:blip r:embed="rId18"/>
          <a:stretch/>
        </p:blipFill>
        <p:spPr>
          <a:xfrm>
            <a:off x="6589800" y="436392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978" name="Picture 1" descr=""/>
          <p:cNvPicPr/>
          <p:nvPr/>
        </p:nvPicPr>
        <p:blipFill>
          <a:blip r:embed="rId19"/>
          <a:stretch/>
        </p:blipFill>
        <p:spPr>
          <a:xfrm>
            <a:off x="6532560" y="491184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979" name="Picture 1" descr=""/>
          <p:cNvPicPr/>
          <p:nvPr/>
        </p:nvPicPr>
        <p:blipFill>
          <a:blip r:embed="rId20"/>
          <a:stretch/>
        </p:blipFill>
        <p:spPr>
          <a:xfrm>
            <a:off x="4067280" y="4681440"/>
            <a:ext cx="360360" cy="3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4" dur="10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7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8" dur="10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3" dur="10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1000"/>
                            </p:stCondLst>
                            <p:childTnLst>
                              <p:par>
                                <p:cTn id="186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7" dur="10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2" dur="10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6" dur="10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1" dur="10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1000"/>
                            </p:stCondLst>
                            <p:childTnLst>
                              <p:par>
                                <p:cTn id="204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5" dur="10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0" dur="10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4" dur="10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9" dur="10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2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3" dur="10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8" dur="10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1000"/>
                            </p:stCondLst>
                            <p:childTnLst>
                              <p:par>
                                <p:cTn id="231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2" dur="100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7" dur="10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2" dur="1000"/>
                                        <p:tgtEl>
                                          <p:spTgt spid="9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000"/>
                            </p:stCondLst>
                            <p:childTnLst>
                              <p:par>
                                <p:cTn id="245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6" dur="1000"/>
                                        <p:tgtEl>
                                          <p:spTgt spid="9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1" dur="1000"/>
                                        <p:tgtEl>
                                          <p:spTgt spid="9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1000"/>
                            </p:stCondLst>
                            <p:childTnLst>
                              <p:par>
                                <p:cTn id="254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5" dur="1000"/>
                                        <p:tgtEl>
                                          <p:spTgt spid="9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0" name="图片 55300" descr=""/>
          <p:cNvPicPr/>
          <p:nvPr/>
        </p:nvPicPr>
        <p:blipFill>
          <a:blip r:embed="rId1"/>
          <a:stretch/>
        </p:blipFill>
        <p:spPr>
          <a:xfrm>
            <a:off x="314280" y="492120"/>
            <a:ext cx="8515440" cy="6105600"/>
          </a:xfrm>
          <a:prstGeom prst="rect">
            <a:avLst/>
          </a:prstGeom>
          <a:ln w="0">
            <a:noFill/>
          </a:ln>
        </p:spPr>
      </p:pic>
      <p:pic>
        <p:nvPicPr>
          <p:cNvPr id="981" name="Picture 1" descr=""/>
          <p:cNvPicPr/>
          <p:nvPr/>
        </p:nvPicPr>
        <p:blipFill>
          <a:blip r:embed="rId2"/>
          <a:stretch/>
        </p:blipFill>
        <p:spPr>
          <a:xfrm>
            <a:off x="2987640" y="1916280"/>
            <a:ext cx="647640" cy="865080"/>
          </a:xfrm>
          <a:prstGeom prst="rect">
            <a:avLst/>
          </a:prstGeom>
          <a:ln w="0">
            <a:noFill/>
          </a:ln>
        </p:spPr>
      </p:pic>
      <p:pic>
        <p:nvPicPr>
          <p:cNvPr id="982" name="Picture 1" descr=""/>
          <p:cNvPicPr/>
          <p:nvPr/>
        </p:nvPicPr>
        <p:blipFill>
          <a:blip r:embed="rId3"/>
          <a:stretch/>
        </p:blipFill>
        <p:spPr>
          <a:xfrm>
            <a:off x="5940360" y="1930320"/>
            <a:ext cx="647640" cy="865440"/>
          </a:xfrm>
          <a:prstGeom prst="rect">
            <a:avLst/>
          </a:prstGeom>
          <a:ln w="0">
            <a:noFill/>
          </a:ln>
        </p:spPr>
      </p:pic>
      <p:pic>
        <p:nvPicPr>
          <p:cNvPr id="983" name="Picture 1" descr=""/>
          <p:cNvPicPr/>
          <p:nvPr/>
        </p:nvPicPr>
        <p:blipFill>
          <a:blip r:embed="rId4"/>
          <a:stretch/>
        </p:blipFill>
        <p:spPr>
          <a:xfrm>
            <a:off x="3059280" y="3141720"/>
            <a:ext cx="647640" cy="865080"/>
          </a:xfrm>
          <a:prstGeom prst="rect">
            <a:avLst/>
          </a:prstGeom>
          <a:ln w="0">
            <a:noFill/>
          </a:ln>
        </p:spPr>
      </p:pic>
      <p:pic>
        <p:nvPicPr>
          <p:cNvPr id="984" name="Picture 1" descr=""/>
          <p:cNvPicPr/>
          <p:nvPr/>
        </p:nvPicPr>
        <p:blipFill>
          <a:blip r:embed="rId5"/>
          <a:stretch/>
        </p:blipFill>
        <p:spPr>
          <a:xfrm>
            <a:off x="6012000" y="3156120"/>
            <a:ext cx="647640" cy="865080"/>
          </a:xfrm>
          <a:prstGeom prst="rect">
            <a:avLst/>
          </a:prstGeom>
          <a:ln w="0">
            <a:noFill/>
          </a:ln>
        </p:spPr>
      </p:pic>
      <p:pic>
        <p:nvPicPr>
          <p:cNvPr id="985" name="Picture 1" descr=""/>
          <p:cNvPicPr/>
          <p:nvPr/>
        </p:nvPicPr>
        <p:blipFill>
          <a:blip r:embed="rId6"/>
          <a:stretch/>
        </p:blipFill>
        <p:spPr>
          <a:xfrm>
            <a:off x="3059280" y="4365720"/>
            <a:ext cx="647640" cy="865080"/>
          </a:xfrm>
          <a:prstGeom prst="rect">
            <a:avLst/>
          </a:prstGeom>
          <a:ln w="0">
            <a:noFill/>
          </a:ln>
        </p:spPr>
      </p:pic>
      <p:pic>
        <p:nvPicPr>
          <p:cNvPr id="986" name="Picture 1" descr=""/>
          <p:cNvPicPr/>
          <p:nvPr/>
        </p:nvPicPr>
        <p:blipFill>
          <a:blip r:embed="rId7"/>
          <a:stretch/>
        </p:blipFill>
        <p:spPr>
          <a:xfrm>
            <a:off x="6012000" y="4379760"/>
            <a:ext cx="647640" cy="865440"/>
          </a:xfrm>
          <a:prstGeom prst="rect">
            <a:avLst/>
          </a:prstGeom>
          <a:ln w="0">
            <a:noFill/>
          </a:ln>
        </p:spPr>
      </p:pic>
      <p:pic>
        <p:nvPicPr>
          <p:cNvPr id="987" name="Picture 1" descr=""/>
          <p:cNvPicPr/>
          <p:nvPr/>
        </p:nvPicPr>
        <p:blipFill>
          <a:blip r:embed="rId8"/>
          <a:stretch/>
        </p:blipFill>
        <p:spPr>
          <a:xfrm>
            <a:off x="2987640" y="5573880"/>
            <a:ext cx="647640" cy="865080"/>
          </a:xfrm>
          <a:prstGeom prst="rect">
            <a:avLst/>
          </a:prstGeom>
          <a:ln w="0">
            <a:noFill/>
          </a:ln>
        </p:spPr>
      </p:pic>
      <p:pic>
        <p:nvPicPr>
          <p:cNvPr id="988" name="Picture 1" descr=""/>
          <p:cNvPicPr/>
          <p:nvPr/>
        </p:nvPicPr>
        <p:blipFill>
          <a:blip r:embed="rId9"/>
          <a:stretch/>
        </p:blipFill>
        <p:spPr>
          <a:xfrm>
            <a:off x="5940360" y="5587920"/>
            <a:ext cx="647640" cy="8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2" dur="1000"/>
                                        <p:tgtEl>
                                          <p:spTgt spid="9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7" dur="1000"/>
                                        <p:tgtEl>
                                          <p:spTgt spid="9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2" dur="1000"/>
                                        <p:tgtEl>
                                          <p:spTgt spid="9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7" dur="1000"/>
                                        <p:tgtEl>
                                          <p:spTgt spid="9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2" dur="1000"/>
                                        <p:tgtEl>
                                          <p:spTgt spid="9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7" dur="1000"/>
                                        <p:tgtEl>
                                          <p:spTgt spid="9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2" dur="1000"/>
                                        <p:tgtEl>
                                          <p:spTgt spid="9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7" dur="1000"/>
                                        <p:tgtEl>
                                          <p:spTgt spid="9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9" name="图片 54276" descr=""/>
          <p:cNvPicPr/>
          <p:nvPr/>
        </p:nvPicPr>
        <p:blipFill>
          <a:blip r:embed="rId1"/>
          <a:stretch/>
        </p:blipFill>
        <p:spPr>
          <a:xfrm>
            <a:off x="309600" y="1095480"/>
            <a:ext cx="8524800" cy="4667040"/>
          </a:xfrm>
          <a:prstGeom prst="rect">
            <a:avLst/>
          </a:prstGeom>
          <a:ln w="0">
            <a:noFill/>
          </a:ln>
        </p:spPr>
      </p:pic>
      <p:pic>
        <p:nvPicPr>
          <p:cNvPr id="990" name="Picture 1" descr=""/>
          <p:cNvPicPr/>
          <p:nvPr/>
        </p:nvPicPr>
        <p:blipFill>
          <a:blip r:embed="rId2"/>
          <a:stretch/>
        </p:blipFill>
        <p:spPr>
          <a:xfrm>
            <a:off x="3708360" y="2060640"/>
            <a:ext cx="647640" cy="936720"/>
          </a:xfrm>
          <a:prstGeom prst="rect">
            <a:avLst/>
          </a:prstGeom>
          <a:ln w="0">
            <a:noFill/>
          </a:ln>
        </p:spPr>
      </p:pic>
      <p:pic>
        <p:nvPicPr>
          <p:cNvPr id="991" name="Picture 1" descr=""/>
          <p:cNvPicPr/>
          <p:nvPr/>
        </p:nvPicPr>
        <p:blipFill>
          <a:blip r:embed="rId3"/>
          <a:stretch/>
        </p:blipFill>
        <p:spPr>
          <a:xfrm>
            <a:off x="3708360" y="3357720"/>
            <a:ext cx="647640" cy="936360"/>
          </a:xfrm>
          <a:prstGeom prst="rect">
            <a:avLst/>
          </a:prstGeom>
          <a:ln w="0">
            <a:noFill/>
          </a:ln>
        </p:spPr>
      </p:pic>
      <p:pic>
        <p:nvPicPr>
          <p:cNvPr id="992" name="Picture 1" descr=""/>
          <p:cNvPicPr/>
          <p:nvPr/>
        </p:nvPicPr>
        <p:blipFill>
          <a:blip r:embed="rId4"/>
          <a:stretch/>
        </p:blipFill>
        <p:spPr>
          <a:xfrm>
            <a:off x="3708360" y="4638600"/>
            <a:ext cx="647640" cy="936720"/>
          </a:xfrm>
          <a:prstGeom prst="rect">
            <a:avLst/>
          </a:prstGeom>
          <a:ln w="0">
            <a:noFill/>
          </a:ln>
        </p:spPr>
      </p:pic>
      <p:pic>
        <p:nvPicPr>
          <p:cNvPr id="993" name="Picture 1" descr=""/>
          <p:cNvPicPr/>
          <p:nvPr/>
        </p:nvPicPr>
        <p:blipFill>
          <a:blip r:embed="rId5"/>
          <a:stretch/>
        </p:blipFill>
        <p:spPr>
          <a:xfrm>
            <a:off x="7797960" y="1989000"/>
            <a:ext cx="647640" cy="936720"/>
          </a:xfrm>
          <a:prstGeom prst="rect">
            <a:avLst/>
          </a:prstGeom>
          <a:ln w="0">
            <a:noFill/>
          </a:ln>
        </p:spPr>
      </p:pic>
      <p:pic>
        <p:nvPicPr>
          <p:cNvPr id="994" name="Picture 1" descr=""/>
          <p:cNvPicPr/>
          <p:nvPr/>
        </p:nvPicPr>
        <p:blipFill>
          <a:blip r:embed="rId6"/>
          <a:stretch/>
        </p:blipFill>
        <p:spPr>
          <a:xfrm>
            <a:off x="7797960" y="3286080"/>
            <a:ext cx="647640" cy="936720"/>
          </a:xfrm>
          <a:prstGeom prst="rect">
            <a:avLst/>
          </a:prstGeom>
          <a:ln w="0">
            <a:noFill/>
          </a:ln>
        </p:spPr>
      </p:pic>
      <p:pic>
        <p:nvPicPr>
          <p:cNvPr id="995" name="Picture 1" descr=""/>
          <p:cNvPicPr/>
          <p:nvPr/>
        </p:nvPicPr>
        <p:blipFill>
          <a:blip r:embed="rId7"/>
          <a:stretch/>
        </p:blipFill>
        <p:spPr>
          <a:xfrm>
            <a:off x="7797960" y="4567320"/>
            <a:ext cx="64764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4" dur="1000"/>
                                        <p:tgtEl>
                                          <p:spTgt spid="9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9" dur="1000"/>
                                        <p:tgtEl>
                                          <p:spTgt spid="9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4" dur="1000"/>
                                        <p:tgtEl>
                                          <p:spTgt spid="9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9" dur="1000"/>
                                        <p:tgtEl>
                                          <p:spTgt spid="9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4" dur="1000"/>
                                        <p:tgtEl>
                                          <p:spTgt spid="9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9" dur="10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6" name="图片 52231" descr=""/>
          <p:cNvPicPr/>
          <p:nvPr/>
        </p:nvPicPr>
        <p:blipFill>
          <a:blip r:embed="rId1"/>
          <a:stretch/>
        </p:blipFill>
        <p:spPr>
          <a:xfrm>
            <a:off x="285840" y="1619280"/>
            <a:ext cx="8572320" cy="3619440"/>
          </a:xfrm>
          <a:prstGeom prst="rect">
            <a:avLst/>
          </a:prstGeom>
          <a:ln w="0">
            <a:noFill/>
          </a:ln>
        </p:spPr>
      </p:pic>
      <p:pic>
        <p:nvPicPr>
          <p:cNvPr id="997" name="Picture 1" descr=""/>
          <p:cNvPicPr/>
          <p:nvPr/>
        </p:nvPicPr>
        <p:blipFill>
          <a:blip r:embed="rId2"/>
          <a:stretch/>
        </p:blipFill>
        <p:spPr>
          <a:xfrm>
            <a:off x="1042920" y="3213000"/>
            <a:ext cx="5689800" cy="962280"/>
          </a:xfrm>
          <a:prstGeom prst="rect">
            <a:avLst/>
          </a:prstGeom>
          <a:ln w="0">
            <a:noFill/>
          </a:ln>
        </p:spPr>
      </p:pic>
      <p:pic>
        <p:nvPicPr>
          <p:cNvPr id="998" name="Picture 1" descr=""/>
          <p:cNvPicPr/>
          <p:nvPr/>
        </p:nvPicPr>
        <p:blipFill>
          <a:blip r:embed="rId3"/>
          <a:stretch/>
        </p:blipFill>
        <p:spPr>
          <a:xfrm>
            <a:off x="826920" y="4292640"/>
            <a:ext cx="568980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6" dur="1000"/>
                                        <p:tgtEl>
                                          <p:spTgt spid="9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41" dur="1000"/>
                                        <p:tgtEl>
                                          <p:spTgt spid="9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22T00:46:13Z</dcterms:modified>
  <cp:revision>2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